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8E5-FE9B-45D7-984B-CA4F74C5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A06-BED8-4F66-877F-91FB6099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9F2-F8CF-48DB-8297-DDC89B31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760-EEAA-43EB-8AC8-23139B6D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6EE-0569-4388-9E45-6E9E0E05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0C20-A660-468E-A633-D5E122F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87F-C0D4-42C5-AE22-65FC9EC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BCB-0182-4589-BE47-22CE46C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9D6-5D20-46BB-AD7D-3BF1D44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8FAA-8E13-474E-97C6-C605243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667-00C0-4155-9D7D-FCBE975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31A-0BED-49CD-B529-EBA4ED7F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F90-EA38-47E7-9A83-A354514F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9E8-D9F1-4BD3-A2DB-1AFD7D1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272E-3BBE-4C3B-BDEC-F303CB0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B4AD-907A-41E7-B237-6268D29F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B061-2F8A-4884-830F-C6E066C8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8A2-0EDF-4D7C-AC27-2A225A2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7B0-A76E-4034-AE83-8B4547C8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DA7-229D-4B75-8365-3817AC3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982-D16C-48E8-8023-4325D9C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A60-D3DF-4F61-A39D-496E512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5A2-4112-4557-BE12-10D4011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BCD-19D5-4B08-A4CD-E9A3241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611280" cy="6859440"/>
            <a:chOff x="0" y="-1440"/>
            <a:chExt cx="611280" cy="6859440"/>
          </a:xfrm>
        </p:grpSpPr>
        <p:sp>
          <p:nvSpPr>
            <p:cNvPr id="1" name=""/>
            <p:cNvSpPr/>
            <p:nvPr/>
          </p:nvSpPr>
          <p:spPr>
            <a:xfrm>
              <a:off x="41040" y="-1440"/>
              <a:ext cx="5684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040" y="4907160"/>
              <a:ext cx="5623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200" y="4856400"/>
              <a:ext cx="57600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60" y="2816280"/>
              <a:ext cx="5821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040" y="3537000"/>
              <a:ext cx="46260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8560" y="425520"/>
              <a:ext cx="4320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1440" y="260640"/>
              <a:ext cx="42984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720" y="-1440"/>
              <a:ext cx="2721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" y="0"/>
              <a:ext cx="1418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4176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0" y="6228000"/>
              <a:ext cx="550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C6E-7D12-4E0C-8898-4B046469C52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302680" y="-1440"/>
            <a:ext cx="841320" cy="6859440"/>
            <a:chOff x="8302680" y="-1440"/>
            <a:chExt cx="841320" cy="6859440"/>
          </a:xfrm>
        </p:grpSpPr>
        <p:sp>
          <p:nvSpPr>
            <p:cNvPr id="55" name=""/>
            <p:cNvSpPr/>
            <p:nvPr/>
          </p:nvSpPr>
          <p:spPr>
            <a:xfrm>
              <a:off x="8359560" y="-1440"/>
              <a:ext cx="7826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59560" y="4906800"/>
              <a:ext cx="7747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4856040"/>
              <a:ext cx="79200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3720" y="2816280"/>
              <a:ext cx="80028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96280" y="3537000"/>
              <a:ext cx="63648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48560" y="425520"/>
              <a:ext cx="59364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53240" y="260280"/>
              <a:ext cx="59076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3440" y="-1440"/>
              <a:ext cx="37440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53440" y="0"/>
              <a:ext cx="19512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02680" y="0"/>
              <a:ext cx="5868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2800" y="6227640"/>
              <a:ext cx="757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198D-6AA3-42F1-982D-33BDE6120BF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ИСТЕМА МОНИТОРИНГА И ОЦЕН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ИЗАЦИИ КОМПОНЕНТОВ ГОСУДАРСТВЕННОЙ ПРОГРАММЫ РЕ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РАЗВИТИЯ ЗДРАВООХРАНЕНИЯ  РЕСПУБЛИКИ КАЗАХСТАН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 2005-2010 Г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5320" y="5516640"/>
            <a:ext cx="47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неральный директор НЦПФЗОЖ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.м.н., профессор Тулебаев К.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269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блемы во время сбора данных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21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индикаторам были получены не корректные данные (например, указано определенное количество организаций ПМСП, а информация по необходимому их количеству меньше почти в 2 раза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показателям были представлены не полные данные, что затрудняло анализ ситуаци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Финансовые показатели представлялись в разных единицах измерения (млн. тенге, тыс. тенге, абсолютные числа), что затрудняло  анализ этих данных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Некоторые показатели вообще не были получены в силу отсутствия контроля со стороны департаментов здравоохранения (в основном это касается показателей ответственности государства и работодателей за здоровье населения)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477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7 показателям сбор будет осуществляться с 2007 – 2008 год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20 показателям сбор будет осуществляться с 2006 год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8 индикаторам информация не была получ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35 индикаторам была получена информация полностью или частичн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одился сравнительный анализ показателей 2005 года по сравнению с данными 2004 г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333360"/>
            <a:ext cx="747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197000"/>
            <a:ext cx="838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ая обеспеченность медицинских организаций протокол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уровень подготовленности медицинских работников по использованию протокол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контроль за оказанием медицинских услуг в соответствии с протоколами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е утвержденных стандартов оснащенности медицинским оборудованием и изделиями медицинского назнач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еспеченность организаций ПМСП методическими материалами по скринингу и профилактическим осмотрам, методическими и информационными материал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своение не только средств местного бюджета, но и целевых трансвертов (84,7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ое обеспечение медицинских организаций минимальным стандартом оснащенности медицинским оборудованием и автотран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уктура расходов в системе здравоохранения (стационар-75,6%, ПМСП-24,4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дена апробация рейтинговой оценки регионов по реализации Госпрограммы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етодическое руковод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принципы и приоритеты системы мониторинга и оценки в реализации Государственной программы реформирования и развития здравоохранения РК на 2005 – 2010 год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рганизационные мероприятия по разработке и внедрению системы мониторинга и оценки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Инструкция по сбору информации системы мониторинга и оценки реализации Госпрограмм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Временные отчетные формы по сбору информации по системе мониторинга и оценки реализации Госпрограммы и порядок их заполн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насел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руководителей медицинских организаций о ходе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каз Министерства здравоохранения от 22.09.2006г. №425 «О проведении республиканского семинара «Подходы и принципы к системе мониторинга и оценки программ здравоохранения в Казахстан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9 участников; из них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4 представителей регион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 представителей международны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 представителей МЗ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представитель Аппарата Президента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представителей Республикански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представителя ТОО «Мединфор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3868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32 индикаторов конечного результата страновой системы мониторинга и оценки Госпрограммы 17 индикаторов конечного результата учтены в региональных программ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го примерно 110 индик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каз Президента РК от 13 сентября 2004 года №1438 «О Государственной программе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К от 13.10.2004г. №1050 « Об утверждении Плана мероприятий по реализации Государственной программы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нцепция системы мониторинга и оценки реализации Госпрограм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граммно – целево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ункциональны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920" y="2133720"/>
            <a:ext cx="9108720" cy="3382200"/>
            <a:chOff x="34920" y="2133720"/>
            <a:chExt cx="9108720" cy="3382200"/>
          </a:xfrm>
        </p:grpSpPr>
        <p:sp>
          <p:nvSpPr>
            <p:cNvPr id="115" name=""/>
            <p:cNvSpPr/>
            <p:nvPr/>
          </p:nvSpPr>
          <p:spPr>
            <a:xfrm rot="10800000">
              <a:off x="34920" y="2140560"/>
              <a:ext cx="9108720" cy="3375000"/>
            </a:xfrm>
            <a:prstGeom prst="rtTriangle">
              <a:avLst/>
            </a:prstGeom>
            <a:solidFill>
              <a:srgbClr val="cce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3760" y="343368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Вклад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0880" y="292356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4960" y="243432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межуточный результат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0360" y="2206080"/>
              <a:ext cx="15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Ожидаемый результат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240" y="213372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7720" y="2141280"/>
              <a:ext cx="0" cy="717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2680" y="2141280"/>
              <a:ext cx="0" cy="14677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0400" y="2139480"/>
              <a:ext cx="0" cy="2299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92480" y="2141280"/>
              <a:ext cx="8280" cy="2841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8120" y="242820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3960" y="3362760"/>
              <a:ext cx="454680" cy="430560"/>
            </a:xfrm>
            <a:prstGeom prst="leftArrow">
              <a:avLst>
                <a:gd name="adj1" fmla="val 50000"/>
                <a:gd name="adj2" fmla="val 26401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5840" y="2858760"/>
              <a:ext cx="454680" cy="430920"/>
            </a:xfrm>
            <a:prstGeom prst="leftArrow">
              <a:avLst>
                <a:gd name="adj1" fmla="val 50000"/>
                <a:gd name="adj2" fmla="val 26378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14128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5320" y="5876640"/>
            <a:ext cx="4073040" cy="556920"/>
            <a:chOff x="5035320" y="5876640"/>
            <a:chExt cx="4073040" cy="556920"/>
          </a:xfrm>
        </p:grpSpPr>
        <p:sp>
          <p:nvSpPr>
            <p:cNvPr id="130" name=""/>
            <p:cNvSpPr/>
            <p:nvPr/>
          </p:nvSpPr>
          <p:spPr>
            <a:xfrm rot="10800000">
              <a:off x="8148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0353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813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6591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370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5880" y="5876640"/>
            <a:ext cx="4073040" cy="556920"/>
            <a:chOff x="1145880" y="5876640"/>
            <a:chExt cx="4073040" cy="556920"/>
          </a:xfrm>
        </p:grpSpPr>
        <p:sp>
          <p:nvSpPr>
            <p:cNvPr id="136" name=""/>
            <p:cNvSpPr/>
            <p:nvPr/>
          </p:nvSpPr>
          <p:spPr>
            <a:xfrm rot="10800000">
              <a:off x="4259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11458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1923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702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3480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12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цели» или достижения по основным направлениям Государственной программы (Госпрограмм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эффекта» или достижения ожидаемых (конечных) результатов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результативности» или промежуточные результаты, которые позволяют отслеживать следствие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процесса» или действия, которые позволяют отслеживать ход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вклада» или объем выделенных ресурсов на реализацию Госпрограммы и степень их освоения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 категорий индикаторов мониторинга и оце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– «Цел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здоровья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пень солидарной ответственности государства и человека за его здоровь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охраны здоровья матери и ребен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организации медицинской помощи населению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управления здравоохранен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3336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 эффек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24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индикатора конечного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653000"/>
            <a:ext cx="676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его - 180 показа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21300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результативности, процесса, вкла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хема потоков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стемы мониторинга и оце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0920" y="3070080"/>
            <a:ext cx="2232000" cy="1582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ч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рган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 СМ и 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1989000"/>
            <a:ext cx="259236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АИС «Здравоохранение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4797360"/>
            <a:ext cx="259236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4870440"/>
            <a:ext cx="2592360" cy="642600"/>
          </a:xfrm>
          <a:prstGeom prst="rect">
            <a:avLst/>
          </a:prstGeom>
          <a:solidFill>
            <a:srgbClr val="66ff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Мединфо»            База да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844640"/>
            <a:ext cx="259236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министерства и ведом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1480" y="2781360"/>
            <a:ext cx="792360" cy="647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59280" y="4221000"/>
            <a:ext cx="623880" cy="6494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6560" y="2637000"/>
            <a:ext cx="1008360" cy="82548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2920" y="3933720"/>
            <a:ext cx="1224000" cy="863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2781360"/>
            <a:ext cx="936720" cy="863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70200" y="4149720"/>
            <a:ext cx="72072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9840" y="4149720"/>
            <a:ext cx="93672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840" y="2637000"/>
            <a:ext cx="1152720" cy="10112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5734080"/>
            <a:ext cx="216036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Социологические исследова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6560" y="5734080"/>
            <a:ext cx="2160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Временные отчетные форм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8200" y="5445000"/>
            <a:ext cx="144144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445000"/>
            <a:ext cx="1150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56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чники информации для формирования индикатор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330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 индикаторов собираются из других министерств и ведомст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4 индикатора входят в официальную статистическую отчет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 индикаторов собираются КГСЭН и РСЭС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4 индикаторов находятся  под патронажем Комитета контроля качества оказания медицинских услуг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индикаторов относятся к подготовке и переподготовке врачебных и средних медицинских кадров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 индикатора предоставляются Республиканским Центром борьбы со СПИ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 индикатора представляется Национальным Центром проблем туберкулез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 индикаторов получены в результате социологических исследований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6 индикаторов касаются фармацевтической деятельности и предоставляются Комитетом фармац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1 индикаторов собирается из департаментов здравоохранения регионов по временным отчетным формам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4:57:54Z</dcterms:created>
  <dc:creator>user</dc:creator>
  <dc:description/>
  <dc:language>en-US</dc:language>
  <cp:lastModifiedBy>sauko</cp:lastModifiedBy>
  <dcterms:modified xsi:type="dcterms:W3CDTF">2006-11-09T14:00:07Z</dcterms:modified>
  <cp:revision>9</cp:revision>
  <dc:subject/>
  <dc:title>СИСТЕМА МОНИТОРИНГА И ОЦЕНКИ  РЕАЛИЗАЦИИ КОМПОНЕНТОВ ГОСУДАРСТВЕННОЙ ПРОГРАММЫ РЕФОРМИРОВАНИЯ  И РАЗВИТИЯ ЗДРАВООХРАНЕНИЯ  РЕСПУБЛИКИ КАЗАХСТАН  НА 2005-2010 ГОДЫ</dc:title>
</cp:coreProperties>
</file>