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8EE-49C0-4865-809F-3EC536DF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957D-7825-4267-B9C2-3FCE6F41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DF1-868C-4702-91D7-7B2FFCEB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2621-6A25-403B-AA26-98EF6805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78D4A-FD32-4A95-A147-1BB3E9A4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1B7C-835E-4511-B367-904A12A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F3E9-426F-4EDB-9A84-5E715CFE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703-3937-44DB-B6D5-C060F0C2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D05-693D-45B9-8137-B3182197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1A1-A984-4AF5-97FE-7626484C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1692-5B9E-4E32-A872-E372F228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056-0020-4AE6-92DC-9D46ECDA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6BFA0-ED7D-474A-B9F8-9AF70CF8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C090-06C4-4BA2-9BC8-3670B41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D52D-04FF-4235-93F5-5270229E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23371-7227-433F-89F8-63B1D7B9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179E-C19A-4E51-80F0-20D4B5F7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6785-280A-44CE-9AD0-00D7874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8005-F8FE-443E-BE7D-ADA26D38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306-A46D-4948-BEA4-D02C038E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1987-98A4-442C-8405-A7C89867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86A-5139-4439-B3AF-D9E52FC0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266-D3CD-4294-89E4-C541CD18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0AE3-2D2D-46F3-BAB3-8F3A81970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0AF0-8D21-4C3D-B28A-55CEB17BC9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7BF0-D7B0-49F1-A5C5-DA557EC1AD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вые и организационные вопросы Национальных счетов здравоохран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г. Акто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12440" y="1371600"/>
            <a:ext cx="780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Правовые и организацион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вопросы внед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Национальных счетов здравоо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00" y="4317840"/>
            <a:ext cx="7630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.Т. Танирберг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едицинский информационно-аналитический цен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г. Акто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D183-7703-4FFC-86FE-F81E7BCF68C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се физические и юридические лица, обязаны безвозмездно предоставлять первичную статистическую информацию при проведении государственных статистических наблюдений, предусмотренных планом статистических работ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Ведомственные статистические наблюдения, в т.ч. форма №19, входит в число государственных статистических наблюдений (статья 2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лан статистических работ утверждается Правительством (статья 3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7DE7-E2D6-4373-B9D8-6DAACF8B221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Закон РК «О государственной статистике»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07.05.1997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909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коном гарантировано сохранение конфиденциальности статистической информации, в т.ч. содержащие сведения, отнесенные к коммерческой или иной охраняемой тай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пространение статистической информации, содержащей коммерческую тайну преследуется законодательными акт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оАП РК ст. 383 - продажа, передача или иное разглашение статистических данных, содержащих коммерческую тайну, должностным лицом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715-7CD7-44EB-88B9-181F7B1C42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й механизм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. 8 Закона установлено, что уполномоченный орган издает НПА по вопросам государственной статистики, исполнение которых обязательно для всех физических и юридических ли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ом статистических наблюдений на 2006 год, в числе ведомственных наблюдений проводимых МЗ РК предусмотрена форма №19 «Отчет о расходах здравоохране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становления Правительства не подлежат государственной регистрации в органах юстиции, имеют прямое применение на всей территории страны и подлежат исполнению всеми лиц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100B-52DC-4574-BF3A-3F8EF052E46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2666520"/>
            <a:ext cx="77724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респондентов надлежащему заполнению отчетной формы и базы данных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учение персонала качественному сбору и своду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Техническое, программное обеспечение процесса сбора информации и устранение возникающих «проблем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Обеспечение качественного анализа полученной информации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686-49CA-4E60-9F0E-69B3EFC0EB2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онные вопросы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рганизации – получатели бюджетных средств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анные бухгалтерского учет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оставление функциональной классификации расходов бюджета с функциями (видами медицинских услуг в НСЗ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государственные организаци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деление «приходной» части финансов соответственно функциям НСЗ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деление из «приходной части» дохода (прибыли) для фиксации расхода организации на поставку медицинских услуг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617-67B6-4100-B493-5E6EE3E3AD3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04 «Оказание стационарной медицинской помощи по направлению…ПМСП…» - соответствует «НС. 1.1.2 Услуги лечения. Стационарн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грамма 011 «Оказание скорой и неотложной помощи» - соответствует «НС. 4.3 Вспомогательные услуги. Оказание экстренной и неотложной медицинской помощи и транспортировка пациентов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EA0-DA79-45C0-9AB4-865A49FA0F4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олучатели бюджетных средств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блемное сопоставл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ое лечение в дневном стационар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семьи и семейные консульта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филактика инфекционных заболева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еабилитационный уход на дому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оставление медицинских товаров амбулаторным больным, и друг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ность проблемы – проведение финансового ауди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295-F043-43CB-B8E0-F3A7BC66CAE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егосударственные организ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3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всей «приходной» части финансов, полученных от поставки медицинских услуг – включается прибыль, некоторые и платеж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ет непосредственно «расходов» поставщика на оказание медицинских услу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2D8A-5A85-4FBC-BA7E-A1D4AB8AC41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СЗ и фармацевтическая деятельно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363400"/>
            <a:ext cx="82692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лассификация поставщиков услуг сопоставима с классификацией согласно Закона РК «О лекарственных средствах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ольшинство субъектов фармацевтической деятельности реализуют ИМН и МТ через аптечные орган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обходимость аудиторского подхода при формирования отче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CBDF-4059-4D40-8D89-A79CF80A0EE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433600"/>
            <a:ext cx="8269200" cy="31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назначены для структурирования групп расходов, соответствующих профилю деятельности организации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изаций НСЗ не пригодно  в целях финансового контроля в силу не полного их отраж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группировать финансовые ресурсы для определения структуры рынка медицинских услу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F2C-A180-49B7-A583-75BB53CCD0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990360"/>
            <a:ext cx="779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1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осударственной Программой реформирования и развития здравоохранения Республики Казахстан на 2005-2010 годы, в рамках совершенствования системы финансирования отрасли предусмотрено внедрение в 2006-2007 годах Национальных счетов здравоохранения (НСЗ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СЗ позволяет определить в денежном выражении вклад всех государственных, общественных и иных институтов (государственный бюджет, средства населения, страховые взносы, иностранные организации, средства работодателей и т.д.) в систему здравоохран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C0C1-E4FE-4E51-8742-5DBC4515354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2158920"/>
            <a:ext cx="7969320" cy="35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точном заполнении всеми субъектами позволяет определить структуру затрат общества на здравоохранения, долю и объемы бюджетов каждого поставщика услуг в разрезе видов функц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руктурированные денежные потоки в динамике позволяют проследить изменение источников финансирования здравоохранения (нагрузки бюджет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6465-43DA-4847-BB95-BEB1682F028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. Анализ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3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361960"/>
            <a:ext cx="826956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зучение структуры расходов и финансовых потоков позволит выразить в денежном эквиваленте межсекторальное взаимодействие общественных институтов и солидарную ответственность социальных сегментов за общественное и индивидуальное здоровье челове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497-7770-4E67-94E5-E2579632B459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циональные счета здравоохранения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2/2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бор полной и достоверной информации дает возможность использовать НСЗ как индикатор важнейших принципов государственной политики в области здравоохранения: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солидарной ответственности государства, работодателей и граждан за сохранение и укрепление индивидуального и общественного здоровья;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ahoma"/>
              </a:rPr>
              <a:t>межсекторального взаимодействия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347F-5F6A-4B1F-9BBC-58998CF893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Организация сбор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9520" y="22860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«Отчет о расходах организации здравоохранения» - форма годовой статистической отчетности №19, утвержденной приказом председателя Агентства РК по статистике от 23 января 2006 г. №1-г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ряду с бумажным носителем – программный комплекс «Национальный счета здравоохранения» (Разработчик: ТОО «Мединформ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государственных органов, осуществляющих сбор информации - приказ И.о. Министра здравоохранения от 10 апреля 2006 г. №170 «О предоставлении ведомственной статистической отчетности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15E-232F-422F-B6CE-CE0832EA11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1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45840" y="220968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бираемые сведения имеют прямое отношение, или составляют коммерческую тайн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зражения и прямые отказы лиц негосударственной формы собственности, в предоставлении информации по форме №1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лучаи не предоставления частными субъектами информации имели место в некоторых областях Республики, (Круглый стол, 5 сентября 2006 г., г. Астана, «Общество «Диабет» (г. Тараз)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ание для отказа в предоставлении информации - приказ МЗ РК №170 не прошел регистрацию в органах юстиции и следовательно не подлежит применению в отношении частных субъекто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99BD-1A89-43FB-8EB8-3C611EBA4F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2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503840" cy="40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ветственность за сбор информации по неутвержденным форма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АП РК, статья 384 – сбор статистической информации по неутвержденным форма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CDA-AF5D-4CB0-8263-FCCCD7E401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3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82692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дание и исполнение приказа №170 не регулируется Законом РК от 24.03.1998 г. «О нормативных правовых актах» - приказ не отвечает требованиям подпункта 1) статьи 1 Закона (отсутствие вводимой новой правовой нормы, рассчитанной на многократное применение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авоприменительное и правореализующее значени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ен круг исполнителе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становлен четкий срок испол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-51192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утствует прямое указание респондента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C8F0-FC96-4114-A49C-2E9CC1C693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НСЗ. Диспутная ситуация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4/4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озражения субъектов об отсутствии  государственной регистрации приказа №170 в органах юстиции в порядке предусмотренном Законом «О нормативных правовых актах» являются необоснованны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вое основание, устанавливающие обязанность лиц предоставлять информацию по форме №19 – нормативные правовые акты в сфере статисти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E424-287D-40CA-809D-37615B8D826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СЗ. Правовое основани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1031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Закон РК от 07.05.1997 «О государственной статистике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02.11.2002 «Об утверждении Правил проведения общегосударственных статистических наблюдений и обеспечения государственных органов статистической и аналитической информацией»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остановление Правительства РК от 31.01.2006 №58 «Об утверждении Плана статистических наблюдений на 2006 год»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Правила предоставления статистической отчетности, утвержденных приказом Председателя Агентства РК по статистике от 10.07.2002 №72 (зарегистрированы в МЮ РК 09.08.2002 №1947)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568-4F9D-4A33-B705-A632258E4FE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ktobe</cp:lastModifiedBy>
  <dcterms:modified xsi:type="dcterms:W3CDTF">2006-10-19T21:54:33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