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20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27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3200" y="4687920"/>
            <a:ext cx="538488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27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A25D0DE-B077-450A-94CD-9520D1F784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127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B95EA17-F627-422B-AE10-308666D156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127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96400" y="4687920"/>
            <a:ext cx="49374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127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D585219-15B3-458B-BFAA-E505B88342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127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6400" y="4687920"/>
            <a:ext cx="49374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127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78036E8-3DF0-4F5D-B8F4-84EBC6255B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127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96400" y="4687920"/>
            <a:ext cx="49374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302E-F041-4B88-AC5F-3DBC7438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AF3D-9963-4528-91B8-A0404FFD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E593-81B2-49A4-84FE-682A2C2C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AC03-67EE-42E0-8C70-92D0C351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3E8C-0932-454F-AA53-CC8A08D1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2187-1566-4DBF-8185-9E2E0E23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C8C3-9EEB-4354-B256-241DCD6E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04BB-D52B-4378-B62A-B969975B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155C-9479-45C7-AA51-BFBE65B6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ABB7-5314-44E3-8E2D-1D3938C4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D68C-2363-4813-9633-A24CE6B6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E72F-1102-4687-98A5-ACF26EAE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CAAF-24D4-45B8-B314-BDFBD073E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2349360"/>
            <a:ext cx="7920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реализации  политики в управлении территориальными системами здравоохра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.м.н. С.Г.Нукуш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404640"/>
            <a:ext cx="7417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инистерство здравоохра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спублики Казахст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6480" y="6093000"/>
            <a:ext cx="3817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тября 200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" y="95400"/>
            <a:ext cx="909720" cy="89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Перспективы развития охраны здоровья матери и ребен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и реализация с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января 200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программы по снижению материнской и младенческой смертности в Республике Казахстан до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и переход с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на критерии живорожденности, рекомендованные ВО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ершение строительства Республиканского центра материнства и детства н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5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е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у и, Республиканского детского реабилитационного центра в г.Астана н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0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ек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все детские и родовспомогательные организации будут оснащены медицинским оборудованием в соответствии с утвержденными нормати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96D7-9420-4FB5-9B3E-D087B3F80F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0680" y="189000"/>
            <a:ext cx="8364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Заболеваемость и смертность от туберкулеза </a:t>
            </a:r>
            <a:br>
              <a:rPr sz="2600"/>
            </a:b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в Казахстане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, 1990-200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5 го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39640" y="909720"/>
          <a:ext cx="79200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09720"/>
                    <a:ext cx="79200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4100400" y="1244520"/>
            <a:ext cx="1752840" cy="1676520"/>
          </a:xfrm>
          <a:prstGeom prst="ellipse">
            <a:avLst/>
          </a:prstGeom>
          <a:noFill/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3084120"/>
            <a:ext cx="1512720" cy="1392840"/>
          </a:xfrm>
          <a:prstGeom prst="upArrow">
            <a:avLst>
              <a:gd name="adj1" fmla="val 43491"/>
              <a:gd name="adj2" fmla="val 37046"/>
            </a:avLst>
          </a:prstGeom>
          <a:solidFill>
            <a:srgbClr val="ff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D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5373720"/>
            <a:ext cx="84326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инамика эпидемиологической ситуации по туберкулезу по данным ВОЗ оценивается за период 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не менее 10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храняющаяся высокая заболеваемость является последствием неэффективного лечения  в середине 1990-х г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1E4B-6F1C-43B7-80C8-E280EC44C9C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Повышение эффективности программ по борьбе с туберкулез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проводится  оценка эффективности програм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O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плюс и с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 будет внедрена она в более усовершенствованной форме, включая лечение мультирезистен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хронизация и усиление реализации республиканского и региональных программ по борьбе с туберкуле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формирование фтизиатрической службы республики и ее интеграция  с ПМСП и службами социальной защиты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8C27-0D2A-49CD-B8EC-E9F509ACB3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Регистрация  ВИЧ-инфекции среди населения 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Республики Казахстан с 1987 - 2004 гг.(в случая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476280"/>
          <a:ext cx="9144000" cy="568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6280"/>
                    <a:ext cx="914400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0067-E1E0-4A27-B8EC-6FE65CBAA9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Меры по противодействию ВИЧ/СПИ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н  межотраслевая Программа по противодействию эпидемии СПИДа в Республике Казахстан на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-20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годно увеличивается охват антиретровирусной терапией больных с ВИЧ/СПИ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билизованы ресурсы международных доноров, в том числе гранты Глобального фонда по борьбе со СПИДом, туберкулезом и малярией в сумм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2,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ллиона долларов США и Всемирного банка в сумм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7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ллионов долларов США, подписан Меморандум с Инициативой Фонда Клин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2AEC-4BC4-46AF-A292-CDA896DEBD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38240"/>
            <a:ext cx="8002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Совершенствование качества </a:t>
            </a:r>
            <a:br>
              <a:rPr sz="2600"/>
            </a:b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медицинской помощ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09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010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ду гг. будет создана система управления качеством медицинской помощи в соответствии с международными стандартами, состоящая из трех уровн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й уровень – внутрибольничный 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й уровень – независимая медицинская эксперт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й уровень – обязательный государственный 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1 июля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года начато внедрение протоколов диагностики и лечения по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иболее часто встречающимся заболеваниям с целью улучшения контроля качества за предоставляемыми услуг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9303-81F8-4BE5-9917-E74F150E40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Расходы стран на здравоохранение </a:t>
            </a:r>
            <a:br>
              <a:rPr sz="2600"/>
            </a:b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в % от ВВП (2004 г.)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981000"/>
          <a:ext cx="914400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50920" y="5589720"/>
            <a:ext cx="864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   Данные ОЭСР (Организации экономического сотрудничества и развития)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005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о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3DC4-DDDD-4C00-BDB1-A1FF82722D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1128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Показатели бюджетного финансирования отрасли здравоохранения в 200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-200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6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 год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8360" y="1268280"/>
          <a:ext cx="8362800" cy="3267000"/>
        </p:xfrm>
        <a:graphic>
          <a:graphicData uri="http://schemas.openxmlformats.org/drawingml/2006/table">
            <a:tbl>
              <a:tblPr/>
              <a:tblGrid>
                <a:gridCol w="3166920"/>
                <a:gridCol w="865440"/>
                <a:gridCol w="863280"/>
                <a:gridCol w="863640"/>
                <a:gridCol w="936720"/>
                <a:gridCol w="1666800"/>
              </a:tblGrid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002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003 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004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005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006 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(на 01.06.200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Cyr"/>
                          <a:ea typeface="Arial"/>
                        </a:rPr>
                        <a:t>Всего расходы на здравоохранение, млрд.тенг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Cyr"/>
                          <a:ea typeface="Arial"/>
                        </a:rPr>
                        <a:t>7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Cyr"/>
                          <a:ea typeface="Arial"/>
                        </a:rPr>
                        <a:t>9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Cyr"/>
                          <a:ea typeface="Arial"/>
                        </a:rPr>
                        <a:t>13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Cyr"/>
                          <a:ea typeface="Arial"/>
                        </a:rPr>
                        <a:t>19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расходы на здравоохранение, млрд. долл. 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,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,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,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 здравоохранения на душу населения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од, в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Z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 9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 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 9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2 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0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Всего расходы здравоохранения в % к ВВ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1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,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,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468360" y="4653000"/>
            <a:ext cx="842472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12"/>
              </a:spcBef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едполагается ежегодное увеличение объема финансирования отрасли                                  с доведением его до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 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к ВВП в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го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ля расходов на ПМСП в общих расходах на здравоохранение увеличились с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0,7%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200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году до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5,7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году. В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году предполагается увеличение финансирования ПМС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до 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51FA-3978-47A3-B48A-BE1686D39F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Первичная медико-санитарная помощь (</a:t>
            </a:r>
            <a:r>
              <a:rPr b="1" lang="en-US" sz="2600" spc="-1" strike="noStrike" u="sng">
                <a:solidFill>
                  <a:srgbClr val="a50021"/>
                </a:solidFill>
                <a:uFillTx/>
                <a:latin typeface="Arial"/>
              </a:rPr>
              <a:t>ПМСП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) – главный приоритет развития и реформирования здравоохранения Казахст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136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работана новая модель организации ПМСП населению республики, основанная на принципах общей врачебной прак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усмотрены новые стандарты структуры, типовые штаты и штатных нормати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тверждены минимальные нормативы (стандарты) оснащения организаций ПМСП медицинским оборудов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делены в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году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,3 млрд.тенг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 доукомплектование и укомплектование медицинских организаций ПМСП медицинскими кадрами в соответствии со штатными нормати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шли переподготовку и повышение квалификаци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рачей общей практики ил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4,5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 общего числа врачей ПМС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4130-6F1D-4E1A-BFD6-0E065572EC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Обеспечение гарантированного объема </a:t>
            </a:r>
            <a:br>
              <a:rPr sz="2600"/>
            </a:b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бесплатной медицинской помощи (</a:t>
            </a:r>
            <a:r>
              <a:rPr b="1" lang="en-US" sz="2600" spc="-1" strike="noStrike" u="sng">
                <a:solidFill>
                  <a:srgbClr val="a50021"/>
                </a:solidFill>
                <a:uFillTx/>
                <a:latin typeface="Arial"/>
              </a:rPr>
              <a:t>ГОБМП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на обеспечение ГОБМП предусмотре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40,0 млрд.тенг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8,1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ольше, чем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ходы 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ителя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запланированы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919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нге (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41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нге больше, чем расходы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лонение расходов 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ителя между регионами уменьшилось с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,2 ра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д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,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а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.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максимальные расходы 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ителя составил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998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нге (Мангистауская область), минимальные 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72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нге (Алматинская область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B844-7EA6-4A8F-9036-AC601C70F3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920" y="2204640"/>
            <a:ext cx="86421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ация «прорывного проекта» по созданию медицинского инновационного кластера г.Астана для прямого трансфера менеджмента и новых технологий по международным стандар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ижение заболеваемости туберкулезом, ВИЧ/СПИД, материнской и младенческой смертности, улучшение показателей продолжительности жизни как основных индикаторов конкурентоспособности 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коренная реализация Государственной программы реформирования и развития здравоохранения Республики Казахстан на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5-20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дрение новых подходов к оплате труда медицинских работников в зависимости от конечного результата труда с учетом его качества, объема и сложности оказываем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38120" y="14616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Реализация Послания Президента Республики Казахстан народу Казахстана «Стратегия вхождения Казахстана в число 50-ти наиболее конкурентоспособных стран мира»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как общенациональной ид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DC9A-2A18-4700-94E6-B2BCF5200D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Улучшение материально-технической базы организаций здравоохранения в 200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6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 го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ащенность объектов ПМСП медицинским оборудованием и изделиями медицинского назначения увеличилась более, чем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 2,5 ра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обретено медицинского оборудования и оснащено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3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П 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14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ФАП, что составило соответственно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8,3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0,3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т общего количества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уплены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единицы санитарного автотранспорта для СВА (оснащение 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и служб скор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33ED-D17E-4981-891E-1DC5DCD341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Показатели заболеваемости населения Республики Казахстан социально значимыми болезнями 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в 2004-2005 гг.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(на 100 тыс. насе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1117440"/>
          <a:ext cx="9201240" cy="454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17440"/>
                    <a:ext cx="920124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3D72-162A-4DF4-8A47-F5024304DA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Совершенствование профилактики, диагностики, лечения и реабилитации социально значимых заболева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556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вые в республиканском бюджете предусмотрено проведение операций по коронарному стентированию (в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.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0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ных, с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. предполагается увеличение количества операций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2 ра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ные с сахарным диабетом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00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еспечены высококачественными препаратами инсулина и средствами его доста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а планируется поэтапное обеспечение онкологических диспансеров необходимой аппаратурой для лучевой терапии и маммографами на общую сумму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,9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лрд.тенг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увеличение закупа химиопрепаратов для онкобольных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2 раза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0,7 млрд.тенг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. д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,4 млрд.тенг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начато создание региональных центров медико-социальной реабилитации наркозависимых л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7979-A0A5-45CE-BAF0-48DB3977CD1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  «Об охране здоровье граждан в РК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О системе здравоохранения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олномоченный орган- Министерство здравоохранения Р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вает  проведение государственной политики в области здравоохранения, медицинской науки, медицинского и фармацевтического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ет руководство деятельностью организаций медицинского и фармацевтического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25"/>
              </a:spcBef>
              <a:spcAft>
                <a:spcPts val="12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енное  регулирование здравоохра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9067-0427-4A99-BBE2-616DDCF9051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сударственное  регулирование здравоохра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9120" y="1268280"/>
            <a:ext cx="8300880" cy="53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ует государственные программы в области здравоохранения, медицинской науки, медицинского и фармацевтического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яет межотраслевое сотрудничество в интересах здоровья граж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ет порядок оказания медицинской помощи и обеспечения лекарственными средствами граж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атывает и утверждает нормативно-правовые акты и нормативные документы, стандарты в области здравоохранения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3B05-82A3-4917-A39A-81AF0BD4452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етенция органов местного государственного управления в области здравоохра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ируют  государственную политику в области здравоохранения в соответствующей территор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вают реализацию гражданами права на ГОБМП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ют местные органы гос.управления здравоохранением и организуют контроль за кадровым обеспечением гос.организаций здравоохранени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D74E-6D71-4935-9ECB-7F77E42DA57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зграничение функ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ое разграничение функций и полномочий было закреплено в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году принятием общего пакета изменений и дополнений в более чем 120 законодательных 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ии со ст.29 Закона РК « О местном государственном самоуправлении» назначение  и освобождение на должность руководителя департамента здравоохранения отнесено к исключительной компетенции Акима обл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57C8-31F8-448B-B2D4-D57E36C6EC6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лизация ЗРК»О республиканском бюджете на 2006 год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стерство здравоохранения выступает Единым организатором гос.закупок здравоохранения при участии представителей департаментов здравоохранения и ГСЭ надзора областей, г.г. Астана и Алматы по программ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 Целевые текущие трансферты областным бюджетам, бюджетам г.Астаны, Алматы  на закуп лекарственных средств, вакцин и др.иммунобиологических препаратов»( обосновывалось необходимостью обеспечения стандартов качества и безопасности лекарственных средств, вакцин и др.иммунобиологических препаратов , приобретаемых для лечения больных с социально-значимыми заболеваниями и проведения вакцинации нас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3DEF-BB79-461D-84B3-2AB3F5B8092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евые текущие трансф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евые текущие трансферты областным бюджетам, бюджетам г.Астаны, Алматы  на материально-техническое оснащение медицинских организаций здравоохранения на местном уровне» -в целях унификации закупа дорогостоящего мед.оборудования(для онкологической службы, кювезов для деских больниц и организаций родовспоможения, маммограф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683D-C44C-4F21-BCC7-EF10587D679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евые текущие  трансф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республиканской бюджетной программ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2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Целевые текущие  трансферты областным бюджетам, бюджетам городов Астаны и Алматы                                                                                           на закуп лекарственных средств, вакцин и других иммунобиологических препаратов» на 2007 г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уп противотуберкулезных препаратов (считаем возможным передать данный закуп на местный уровень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о подпрограмме 104 «Целевые текущие трансферты областным бюджетам, бюджетам городов Астаны и Алматы на закуп лекарственных средств, диализаторов, расходных материалов для больных с почечной недостаточностью и лекарственных средств для больных после трансплантации почки»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ем возможным передать закуп  на местный уровен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EDBD-39A7-419A-8E67-107C21CE0B8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1250"/>
              </a:spcBef>
              <a:spcAft>
                <a:spcPts val="1250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емая продолжительность жизни (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6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нская и младенческая смертность                               (детская смертность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5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ст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ияние туберкулеза на бизнес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ст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ияние ВИЧ/СПИД на бизнес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Основные индикаторы здоровья населения, определяющие конкурентоспособность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E60-58C8-4E87-9D33-3718591A7D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евые текущие трансф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одпрограмме 103 «Целевые текущие трансферты областным бюджетам, бюджетам городов Астаны и Алматы на закуп химиопрепаратов онкологическим больным»-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ем возможным передать закуп  на местный уровен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грамм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елевые  текущие трансферты областным бюджетам, бюджетам г. Астаны, г.Алматы на МТ оснащение  медицинских организаций на местном уровне- закуп в феврале – марте  2007 года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ем возможным передать закуп  на местный уровен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6CB6-58CA-446F-9315-34E7EB10AC4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Благодарю за внимание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44AA-99B3-4BF2-BA43-A4D66E77811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Ожидаемая продолжительность жизни 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при рождении (2005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1484280"/>
          <a:ext cx="9144000" cy="46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400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C0ED-0EC9-49BD-8BD4-282AED6BBE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Меры по улучшению показателей продолжительности жиз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ышение доступности и качества медицинской помощи населению путем внедрения новых технологий диагностики и леч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здание единой системы реализации региональных программ по формированию здорового образа жиз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ализация мер по обеспечению чистой питьевой водой, снижение воздействия неблагоприятных экологических и производственных факторов на здоровье населения для снижения смертности населе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6665-992E-4488-A0EE-C79E2E674E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Показатели младенческой и материнской смертности в Республике Казах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50920" y="981000"/>
          <a:ext cx="8638920" cy="53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863892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3EB6-DA64-41C8-B4F1-DE82D0E8777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7929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Сравнительные показатели младенческой и материнской смертности в 200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1066680"/>
          <a:ext cx="8388360" cy="474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8388360" cy="47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24000" y="5661000"/>
            <a:ext cx="80658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 внедрением критериев живорождения с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00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года, рекомендованных ВОЗ, прогнозируется увеличение показателя младенческой смерт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40800" y="1341360"/>
            <a:ext cx="130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100 случаев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67200" y="1484280"/>
            <a:ext cx="1498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3901 случай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8DF8-7294-43DB-A406-E6F61B17DC0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137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Охрана здоровья матери и ребенка – приоритетная задача Госпрограм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чение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проведены бесплатные профилактические медицинские осмотры женщин репродуктивного возраста от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ет (охва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8%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нщин данной категории ил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,7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лн.женщин, выявлено больных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3,3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здоровлено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59%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нщ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все женщины в возрасте о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4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ет пройдут бесплатные профилактические осмотры. Выделен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,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лрд. тен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беременные женщины в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у н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00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еспечены железо- и йодосодержащими препаратами. В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у выделен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2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лн.тен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23D8-E857-45C0-AED2-9DE10B1E67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137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Охрана здоровья матери и ребенка – </a:t>
            </a:r>
            <a:br>
              <a:rPr sz="2600"/>
            </a:b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приоритетная задача Госпрограм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3516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дети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д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ти лет обеспечены бесплатными лекарственными средствами на амбулаторном уро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а  дети  и подростки, состоящие на диспансерном учете  обеспечиваются  бесплатными лекарственными средств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 приобретено медицинского оборудования для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одовспомогательных организаций 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4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енских консультаций. Выделе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,3 млрд.тен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родовспомогательным организациям для оснащения кювезами, аппаратами искусственной вентиляции легких, УЗИ и другими выделе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,9 млрд.тенг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CD90-E7BC-48AF-8B29-329D22F36C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10:34:01Z</dcterms:created>
  <dc:creator>Бермагамбетова</dc:creator>
  <dc:description/>
  <dc:language>en-US</dc:language>
  <cp:lastModifiedBy>Расул Дюсенов</cp:lastModifiedBy>
  <dcterms:modified xsi:type="dcterms:W3CDTF">2006-10-20T01:33:48Z</dcterms:modified>
  <cp:revision>356</cp:revision>
  <dc:subject/>
  <dc:title>Слайд 1</dc:title>
</cp:coreProperties>
</file>