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D3D-39D7-4952-903E-5BE778F9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04FF-40D5-45D4-ACBB-7F516D3B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D708-6D73-4F4E-ADEC-E2FA38F3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6B9-0FF6-4D7A-995F-02D63353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A9F9-9420-4E0D-8F02-B63C3DEA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7434-4F12-4746-90D8-405E1D0E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B474-C52E-4A17-A7B4-D21CCA38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ADFA-F50A-488D-BFB8-D96FF305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E17D-5B0C-451B-A836-75D61037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BF7C-D121-4FED-9A15-442905B2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8D2E-361D-4240-81A7-82A61717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ECE-8676-488C-AEDC-6DB0A5D4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7C1D-19F0-4D42-AE62-D5451411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5960-14A2-41F2-9EC4-F64383E0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D455-70D3-4B8F-8415-0863CCA9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C896-EDB4-4384-9FFF-8E801964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D4B2-CA8D-4C24-8569-DF88C462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E43-0237-4D3C-A90F-A062FDAE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FCDB-EC1B-4F49-8120-DB234E68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1393-0C63-45C0-848D-15436192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BAB-DD10-454F-9567-EF163C04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201-0DE7-4A3C-97CB-CAFC5AA2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E80-5436-4F70-B77C-C357814C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F97-273E-4AD1-8B9B-F7347B20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0629-450E-47A9-A838-19474429AB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4846-095B-46E5-B685-B9DB668690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</a:t>
            </a: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овершенствование основ политики и управления  в здравоохранении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. KULZHANOV M.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zakhstan School of Public Heal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aty, October 20-21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ретьей составляющей оценки качества управления является анализ показателя экономич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т.е. соотношения результата к затра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Управленческие решения на уровне обла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6% - решения по частным вопрос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4% - значимые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3% - принятые единолично руко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% - развитию общестационарной и ПМС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обладание решении по вопросам специализированной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истема подбора, обучения и расстановки кадр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тверждение критериев от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бор резерва руководящих кад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равление на обучение (1-2 годичные кур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вижение на руководящую долж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в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Управления по результатам в здравоохранении,основные разделы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ясных целей и подцелей для системы здравоохра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системы сбалансированных показателей здоровья и развития системы здравоохра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ханизмы работы в новой системе управления  и взаимодействие  учреждений здравоохранения между собой и с вышестоящими уровнями 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нансирование (одноканальная система финансирования, составление проекта бюджета  ориентированного на результат (показатели здоровья и др. индикаторы) (новая форма бюджетной заяв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мер формулирования целей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ять целей системы здравоохранения для  повышения показателей здоровья населения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смертности населения от болезней системы кровообращ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смертности населения от онкологических заболеваний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смертности населения от травм и от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заболеваемости населения болезнями органов дыхания, включая Т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детской заболевае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Пример формулирования целей повышения эффективности системы здравоохран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49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 внедрение новой системы планирования и  финансирования по методологии бюджетирования ориентированного на результ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системы стимулирования ЛПУ за эффективное использование финансов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системы учета таким образом, чтобы она позволяла оценить воздействие оказываемых услуг на здоровье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дрение стандартов качества оказываемых услуг в каждой ЛПУ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11640" y="333000"/>
            <a:ext cx="25779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долж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лановых значений уровня качества оказываемых услу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периодического мониторинга качества оказываемых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типовой системы мотивации персонала, ориентированной на достижение ц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единой закупочной политики лекарственного обеспе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Интернет-сайтов департаментов здравоохранения обла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торой составляющей оценки качества управления является анализ результатив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Результативность характеризуется соотношением поставленных целей и достигнуты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Пример показателей, характеризующих результативность здравоохран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ртность от болезней системы кровообращения на 100 000 насе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ичная заболеваемость туберкулёзом на 100 000 взрослого и детского насе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ая выявляемость онкологических заболеваний в I-II стадия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мплектованность физическими лицами должностей врачей-терапевтов участковых, врачей-педиатров участковых, врачей общей практики их соотнош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ельный вес больных инфарктом миокарда, госпитализированных в первые 6 часов от начала заболе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Примеры целевых показателей реформирования управления системой здравоохранения для областного уровня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формированной бюджетной заявки по новой методологии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я медицинских работников, прошедших обучение по алгоритмам оказания услу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утвержденного Плана мероприятий по реализации Кадровой политики в сфере здравоохра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Единой базы данных по врачебному и сестринскому персоналу, работающему в учреждениях здравоохранения обла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базы данных оснащения учреждений здравоохра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одичность обновления Интернет-сайта департамента здравоохра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Пример целевых показателей здоровья для районного уровня управления здравоохран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ертность от инфаркта миокарда и цереброваскулярных болезней в райо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ничная летальность от инфаркта миокарда и цереброваскулярных болезн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ертность от травм и отравлений в райо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летняя выживаемость больных онкологическими заболевания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ота обострений хронических заболеваний у детей, состоящих на диспансерном учете в данном учреждении здравоохранения, наличие группы ЧД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9:25:21Z</dcterms:created>
  <dc:creator>Kulzhanov</dc:creator>
  <dc:description/>
  <dc:language>en-US</dc:language>
  <cp:lastModifiedBy>sauko</cp:lastModifiedBy>
  <dcterms:modified xsi:type="dcterms:W3CDTF">2006-10-19T15:08:37Z</dcterms:modified>
  <cp:revision>4</cp:revision>
  <dc:subject/>
  <dc:title>Cовершенствование основ политики и управления  в здравоохранении </dc:title>
</cp:coreProperties>
</file>