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4BA-D9B4-46C2-9C2F-40D94E2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8F4-5A4F-4B09-8CDA-5B66487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AE8-10B4-45A3-AD18-119C70B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BA2-E51F-4DDA-93AB-3F3362CB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ABDD-4168-405C-8037-15393877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98F-535D-48F5-991B-D2E37C22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E2C4-5725-49DF-8F28-542A467E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F8B9-F513-4B44-8F8B-8381F09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769-4D39-4399-850A-05AFE46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DB91-B66B-48AB-AF68-79AC001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CF8E-44DC-4B1D-B4CC-52CBDC0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7B6-0FB0-40B6-B25E-107EA876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86A6-EF6E-46EE-9130-A081A21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2948-D9DE-496B-A820-818BB55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4626-6456-4530-95B3-802136F9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B822-229B-49A1-B1BB-00DAF3C5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F78C-47B1-4099-8D9C-BB0DCD5A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689-6A8B-4F25-A47C-816B0936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4C2-F270-4404-8640-58A6318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4CA-2455-4436-A350-DE7CA98E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BBD-07F9-4782-A4AB-B3B3B8B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1F4-B8E7-4471-A5B5-9C97578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828-8982-4890-9CEA-93172F0B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8F5-788B-45AF-A0E2-3E12E23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039-56DA-4CB0-B8C9-C557C90F35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9C8D-3704-4C75-9057-754774047D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временные подходы к научно-практическому сопровождению реформирования системы здравоохранения Р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иртанов 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ститут развития здравоохран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З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пределение главной це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разработка и реализация новых программ реформирования здравоохранения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задача для всего обще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 реальным участием всех государственных и общественных институтов, а в первую очередь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 реальным участием насел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с учетом его реальных и перспективных потребностей в охране и укреплении здоровья в условиях глобальной интеграции и конкурен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еспечение эффективности рефор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ологическое обеспе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рганизационное обеспечение (финансовое, нормативно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проблем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совершенство планирования и управления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лые инвести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ая инновационная результат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ый потенциал (кадровый, технический, методологически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ая международная интеграция, отсутствие конкурентоспособности на внешнем и внутреннем «рынке»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состоя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Слабый уровень и качество исследований системы здравоохранения, их невостреб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рая недостаточность современных, научно-обоснованных, инновационных технологий</a:t>
            </a: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 в области организации, управления и экономики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Неспособность науки полноценно решать актуальные проблемы реформирования и развития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ирование системы управления научно-технической сферо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В принципиальном плане эту новацию можно трактовать как переход от управления научными учреждениями, как это было раньше, к управлению научными исследованиями» (Из выступления Президента на юбилейном заседании НАН РК 13.10.2006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а управления наукой в Р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ВНТК под руководством Премьер-Министра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Комитет по науке МОН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создан Фонд нау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ут созданы 5 национальных лабораторий открытого типа по приоритетным направлениям, 15 университетских лаборатор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ка перспективных ученых за рубежом и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принята Государственная программа развития науки на 2007-2012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личение инвестиций в НИР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 &amp; development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из негосударственных 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работка инновационных технологий и обеспечение их внедр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иление кадрового, технологического (ИТ) и методологического потенциала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pacit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едрение международных стандартов, принципов корпоративного управления в деятельность научных организац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и адаптация лучшего мирового опыта и технологий на основе прямого и эффективного международного сотруднич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беспечение реформ и развития здравоохранения – основные компонент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 и управ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ффективное и рациональное финанс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довая научно-методолог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чественная нормативн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ременна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ституциональная ба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азвит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циональная поддержка устойчивого развития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нды и институты развития для реализации проектов в несырьевом сектора экономики (АО «Казына») - 136 проектов на сумму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6 млрд., в 2007-2009 гг. инвестиционная потребность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0 млрд. из них с участием институтов развития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5 млр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нансирование науки в 2007 г. составит наук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35 млн., из них – 10% из Фонда нау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чевидно, в РК необходимы современные национальные институты развития сферы здравоохранения в рамках развит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циальных секторов экономи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Цель – научное, организационно-методологическое, образовательное и финансовое обеспечение реформирования и устойчивого развития системы здравоохранения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ормы в здравоохран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ическое и организационное сопровождение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 – новые задач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о-методологическая поддержка негосударственного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зработка и поддержка инвестиционных проектов в сфере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влечение негосударственных, в том числе, иностранных инвестиций в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внедрения современных стандартов и технологий управления и финансирования в здравоохране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дение маркетинговых, социологических исследова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конкурентоспособности отечественного здравоохранения в регионе и ми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им образом, сегодня нам необходимы новые стратегии в реформировании сферы здравоохранения, основанные на четком видении перспективных целей, на интеграции со всеми секторами экономики, и на основе применения современных научных и институциональных технологий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ирование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обходимость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ыт реформ прошлых л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ы дальнейших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обходимость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фундаментом динамично процветающего общества может быть только современная, конкурентоспособная и открытая рыночная экономика…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Послание Президента РК Н.А.Назарбаева народу Казахстана «Стратегия вхождения Казахстана в число 50-ти наиболее конкурентоспособных стран мира. Астана, 1 марта 2006 г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отово ли отечественное здравоохранение стать элементом такого общества и такой эконо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ыт прошлых л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гика прошлых реформ: сложившаяся ситуация и имеющиеся предпосылки обуславливали цели развития – планирование от достигнут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За всю историю развития отечественного здравоохранения во время реализации разных программ реформирования системы здравоохранения не было проведено ни одной серьезной реструктуризации отрас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» (Аканов А.А., Здравоохранение Казахстана: на пороге структурных преобразований (взгляд в будущее, 200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оритеты будущих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а здравоохранения должна быть интегрирована с системной модернизацией экономики все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обходимо определить место и роль системы здравоохранения в процессе построен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временного постиндустриального общества с высоким уровнем благосостояния и социального обеспечения, с эффективной многоотраслевой национальной экономик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оритетные задачи программы модернизации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одоление бедности и создание среднего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вышения качества человеческого капита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условий для диверсификации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силение роли государства в формировании конкурентоспособной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билизация внутренних накоплений для инвестирования экономических преобразова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роизводственной и социальной инфраструктур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К.Берентаев, КАПИТАЛ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Z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аботка долгосрочной стратег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улировка главной цели развития отрасли в рамках социально-экономического развития на долгосрочную перспектив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кретизация целей с выделением этапов их реал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ределение необходимых условий и предпосылок для каждого эта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 будущего состояния к текущему – увязка между задачами различных этапов, их предпосылками и услов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кончательно сформировать новую модель здравоохран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основной и «цементирующий» элемент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социальной политики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для построения конкурентоспособного общества на основе развития эффективной националь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часть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циональной экономической доктрины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условиях глобальной рыноч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14:52Z</dcterms:created>
  <dc:creator>Serg</dc:creator>
  <dc:description/>
  <dc:language>en-US</dc:language>
  <cp:lastModifiedBy>Serg</cp:lastModifiedBy>
  <dcterms:modified xsi:type="dcterms:W3CDTF">2006-10-20T01:13:03Z</dcterms:modified>
  <cp:revision>10</cp:revision>
  <dc:subject/>
  <dc:title>Современные подходы к научно-практическому сопровождению реформирования системы здравоохранения РК</dc:title>
</cp:coreProperties>
</file>