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4C06-7A3F-4BE9-A3F1-A7251673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AE5E-548F-4BBC-B0D7-9C1E0314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0487-2540-43A6-B623-057AC9B1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97E7-7412-4F78-BE71-4EFE2AB7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0089-3E86-45A0-B00E-A2D07EE1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C7D8-71B0-4908-A437-C7707837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43EB-FB53-47D7-935C-D6E811E5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99B-AB80-4C39-8A89-83B06B55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E3F4-338D-4731-9286-B88D5953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6EB7-0A0E-4445-BA12-DE35B6FA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E5BC-22C7-420B-A9B5-28C24CFC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883-0F19-4C09-86DD-E32D2076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01FB-48EA-4D28-A026-302B22637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сто и роль службы крови в обеспечении безопасности медицинской помощ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ститут развития здравоохранения МЗ Р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ймагамбетова М.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комендации ВОЗ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жба переливания крови с централизованным управлением на уровне страны и системами управления качеством на всех уровн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отовка крови от добровольных доноров из групп населения с низким риском на безвозмездной основе. Привлечение к донорству здоровых людей уменьшает риск сбора инфицированной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рининг всей заготовленной крови на маркеры гемотрансмиссивных инфекций: ВИЧ-инфекция, гепатиты и сифил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екватное клиническое использование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е ежегодного Дня Донора 14 ию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*ДОКУМЕНТЫ ВОЗ и МЕЖДУНАРОДНЫЕ ПРОЕКТЫ Выпуск 14, Январь 2006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лобальная программа ЕС по координации службы крови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ая программа по трансфуз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пция государственной поли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 и подзаконные нормативные а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ая материально-техническая б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, выделенный специально для реализации Государственной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ровольная безвозмездная сдача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ые стандарты деятельности организаций службы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лифицированный персонал на республиканском и местных уровн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рная оценка качества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tory Instrument 2005 N5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лагаемые 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рабочей группы при МЗ РК с участием научных и практических работников для выработки следующих научно обоснованных 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аботка Концепции государственной поли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оритетные направления развития службы крови в области безопасного доно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стема поощрения донорства на бесплатной осн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сударственная программа по развитию и стандартизации службы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лагаемые меры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аботка стандартов для различных уровней организаций службы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териально-техническое оснащение (оборудование, помещения, персон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ндарты кач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аботка научно обоснованной методологии аудита и проведение аудита всех организаций службы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рка степени соответствия стандар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а потребностей рег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лагаемые меры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рнизация службы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снование госинвестиций на основе отчета по результатам ауд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оснащение существующих организ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ие новых\увеличение мощностей или оптимизация действующих согласно оценке потребностей реги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лагаемые меры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ниторинг реализации Государственной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язательность ретроспективного наблюдения реципиентов крови и крове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илить пропаганду бесплатного доно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езопасность крови и кровепродук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предупреждение передачи с донорской кровью инфекционных заболевани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Ч инфек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епатитов В и С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фил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овая осн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еспублике Казахстан деятельность службы крови регламентируется следующими закон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 РК «Об охране здоровья граждан в РК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 РК «О донорстве крови и ее компонен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 РК «О профилактике заболевания СПИД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уктура службы кров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ы крови (республиканский, областные, г.г. Астана и Алматы, региональные) – 28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деления переливания крови в ЦРБ и ряде сельских больниц –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ницы, заготавливающие кровь – 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По данным РЦ кров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2006г.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лужба крови осуществля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ятельность по снабжению организаций здравоохранения кровью и ее компонент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аботку показаний к переливанию крови и ее продуктов в клин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едрение новых препаратов крови, консервирующих растворов, а также кровезамен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ль службы кро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бор доно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бор и заготовка крови и ее продук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ственность за безопасность кров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сперебойное снабжение лечебных организаций цельной кровью и ее продук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ственность за здоровье дон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дельные показатели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ичество доноров – 300 тыс.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м заготовки консервированной крови – 280 тыс. ли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ливание цельной крови – 4,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По данным РЦ крови – 2006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Ч-инфекция среди дон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2003 году 30 доноров с ВИЧ были выявлены в 5 областях республи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2004 году – 22 донора в 7 област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2005 году – 30 доноров в 8 областях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еимущественно эти доноры из группы риска (93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начало 2006 года (за период регистрации ВИЧ в РК) выявлено всего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42 донора с ВИЧ инфекцие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кровь уничтоже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 ВИЧ инфицированных реципиен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бсолютный брак кро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реднем в год более 4%* забираемой крови уничтожается в связи с положительными результатами в ИФА на ВИЧ, гепатиты В и С, сифил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- по данным РЦ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14:22:47Z</dcterms:created>
  <dc:creator>18</dc:creator>
  <dc:description/>
  <dc:language>en-US</dc:language>
  <cp:lastModifiedBy>18</cp:lastModifiedBy>
  <dcterms:modified xsi:type="dcterms:W3CDTF">2006-10-20T02:09:19Z</dcterms:modified>
  <cp:revision>27</cp:revision>
  <dc:subject/>
  <dc:title>Место и роль службы крови в обеспечении безопасности медицинской помощи</dc:title>
</cp:coreProperties>
</file>