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8C4-34A8-4FE9-8814-EB5E480C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DB8-3B87-480A-9817-146D18D0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9C2-C09E-4314-AB1F-34D96E11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6AB-2AEE-4E89-B802-94CDE2DB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29F3-020B-4872-91B6-C78EA59B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57AB-E824-4F30-B478-73D08979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1586-439E-4CD1-8169-0334BB9B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5EBB-35EE-439B-BC1B-78FC8542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9930-1501-4928-A170-4381F54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9BD-9D54-4DA0-B006-54534EF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BFE6-2442-445D-B480-2456274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3E0-6609-4E01-BBE5-975FDD3B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0CF6-A683-42DE-881A-54C7AD1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E61-8180-42F8-8B1D-1FA07D3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A0B-8519-4F52-B5C8-DC57736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35A4-C5A3-4A05-882F-8707B00C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6736-9B9C-4C0B-853F-503D66CA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5D0-8264-47E7-9AE3-BBDF15D6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4E9-EA81-44D6-A5C4-2CC25A8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AD4-4C9C-4090-9920-F544C1CF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772-7F0E-4D3D-8964-D77D6DEB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F5C-67C7-416F-AB07-049F93E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F68-6C1A-401B-B3B2-DA63A5FC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441-2655-4B64-A3A6-01F0761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2AF-BEC8-4DAB-A54D-AFDC7F18D8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83B-87E2-4EF1-B329-5F4A8009F1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64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 в будущее. </a:t>
            </a:r>
            <a:br>
              <a:rPr sz="4800"/>
            </a:br>
            <a:r>
              <a:rPr b="0" i="1" lang="ru-RU" sz="3200" spc="-1" strike="noStrike">
                <a:solidFill>
                  <a:srgbClr val="330066"/>
                </a:solidFill>
                <a:latin typeface="Monotype Corsiva"/>
              </a:rPr>
              <a:t>Здравоохранение Казахстана на пороге структурных преобразований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ые элементы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енное преобразование ПМ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больничного д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трехуровневой системы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дрение международных стандартов в лекарственном обеспеч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медицинского образования и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и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специализированных служ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ие ресурс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управления отрасл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лизация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каждому направлению разработана концепция на 2006-2010 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та реализация программ реформирования ПМСП, медицинского образования, развития человеческих ресурсов, управления и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лижайшее время должны развиваться остальные разделы программ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оведено ни одной серьезной реструктуризации отра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лне больших финансовых вливаний отмечается тенденция увеличения  интенсивных показателей, на фоне низкого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структурных преобразов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здание новых отношений, ориентир на конечные результаты деятельности, качество медицинских услуг, ресурсное обеспечение кадрами новой формации, модернизация, внедрение международных стандартов образования, медицинской науки и практ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0066"/>
                </a:solidFill>
                <a:latin typeface="Arial"/>
              </a:rPr>
              <a:t>Вызовы времени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философии новой 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дрение парадигм рыночн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ая интернационализация конкурентоспособного сектора: переход на международные стандарты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НАСТОЯЩАЯ РЕФОРМА ВПЕ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С В ЮК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совое заражение  детей от 2-х месяцев до 2-х лет 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чему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е нару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и 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их технолог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ы в управлении системой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чины кризи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эффективная деятельно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кро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нитарно-эпидемиологического надз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ешнего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утреннего контроля кач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противодействия ВИЧ\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ществующая система здравоохран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отвечает за послед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заинтересована в конечном результ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мотивирована во внедрении последних современных технологий и достижений медицинской нау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 и материально отстал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конкурентоспособ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опросы, которые волнуют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будет с существующей системой организации здравоохра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й будет новая модель? Как будет развиваться здравоохранение в ближайшие год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ернуть доверие населения и уверенность медицинским работника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проблемы отрасли сегодня наиболее актуаль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усилить госпрограмму реформирования и развития отрас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крытые вопрос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ен ли переход на страховую медици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истему здравоохранения, предполагающую ответственность пациента: сооплата, доплата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увеличить зарплату медицинским работника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тимулы для повышения качества услуг и конкурен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2 г.- необходимость создания новой системы здравоохранения: советская 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6-1998 гг. – разработка  и внедрение бюджетно- страховой системы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1999 г. - бюджетная модель: постсоветск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ки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 одна реформа отрасли не была доведена до логического конца, не осмыслена, не проштудирована с извлечением глубоких и системных выв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была проведена действенная структурная реформа отрасли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ефор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предыдущие усилия – первый этап рефор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второго этапа – формирование новой модели здравоохра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 Государственная программа реформирования и развития здравоохранения на 2005-2010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6:41:17Z</dcterms:created>
  <dc:creator>test</dc:creator>
  <dc:description/>
  <dc:language>en-US</dc:language>
  <cp:lastModifiedBy>user</cp:lastModifiedBy>
  <dcterms:modified xsi:type="dcterms:W3CDTF">2006-10-19T11:26:07Z</dcterms:modified>
  <cp:revision>15</cp:revision>
  <dc:subject/>
  <dc:title>Слайд 1</dc:title>
</cp:coreProperties>
</file>